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2CBE-F6ED-4B12-A59F-A9405AE4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FDF4-B1F7-4D22-9A06-28580196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5D51-59FD-4729-BEC9-891FD1DE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CF12-6E61-47A3-9496-FD26D4BF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8DE1-46F3-48AA-9D80-B9E77A66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54AE-FFFA-4161-BA42-151C7AB1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D061-C6D9-4DA0-9696-5D408A46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17A7-9B29-4342-AC4C-32278E9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5A36-C69B-4B6E-96A1-78F4FEC6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AB03-E9C7-474D-912C-3B9EC8F1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5C2B-9896-461C-885E-59D21256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D5FE0-BEE3-4D30-8D82-66BA21E7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12A3-789B-4BF4-B3C1-CC965E6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8B46-3755-4E88-B16C-E2CB4D3C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20FB-4672-4C2D-B896-76FCACAE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F759-1242-4747-9226-322E88A4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97FC-4F56-4B89-AB81-778BF34D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1634-651C-418E-A78D-5EC434B1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0F8B-7EFB-403B-AF69-102B2F5F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03B0-AD69-4ACD-9B5D-08DE6633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6612-DE02-4B10-8B0E-A6AE11FF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5A97-C3A3-42BE-992F-C3AA957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80F2-04F9-4534-B118-F507F12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AB13-93F1-4418-B284-26C17771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FDF7-ACD1-4EFC-B014-7FF9FD6F8B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E3D9-462A-44A1-BDAA-1242CE2B78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tt akarok lenni, ahol Te vagy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nden nap jelenlétedben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m akarlak távolról látni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nj Magadhoz közel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tt akarok lenni, ahol Te vagy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zess ösvényeden engem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níts meg a mennyei útra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ölts be Szent Szellemeddel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rt Nálad lenni oly jó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ncs ahhoz hasonló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ztalod terítve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átjár dicsőséged fénye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gyütt Veled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z tesz csak boldoggá engem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rre szomjazom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zután vágyódon én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Ó, Istenem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 vagy erősségem, énekem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ikor megérint Szellemed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új dal fakad szívemben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8532720" y="260280"/>
            <a:ext cx="409680" cy="4320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5:35:32Z</dcterms:created>
  <dc:creator>Gyügyei Tamás</dc:creator>
  <dc:description/>
  <dc:language>en-US</dc:language>
  <cp:lastModifiedBy>Gyügyei Tamás</cp:lastModifiedBy>
  <dcterms:modified xsi:type="dcterms:W3CDTF">2005-02-19T15:58:18Z</dcterms:modified>
  <cp:revision>2</cp:revision>
  <dc:subject/>
  <dc:title>Ott akarok lenni, ahol Te vagy, Minden nap jelenlétedben, Nem akarlak távolról látni, Vonj Magadhoz közel!</dc:title>
</cp:coreProperties>
</file>